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ct" ContentType="image/x-pict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7.pct" ContentType="image/x-pict"/>
  <Override PartName="/ppt/media/image6.png" ContentType="image/png"/>
  <Override PartName="/ppt/media/image17.pct" ContentType="image/x-pict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1.pct" ContentType="image/x-pict"/>
  <Override PartName="/ppt/media/image20.pct" ContentType="image/x-pict"/>
  <Override PartName="/ppt/media/image18.pct" ContentType="image/x-pict"/>
  <Override PartName="/ppt/media/image4.png" ContentType="image/png"/>
  <Override PartName="/ppt/media/image15.pct" ContentType="image/x-pict"/>
  <Override PartName="/ppt/media/image3.png" ContentType="image/png"/>
  <Override PartName="/ppt/media/image14.pct" ContentType="image/x-pict"/>
  <Override PartName="/ppt/media/image16.pct" ContentType="image/x-pict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5B3-4952-44FD-B86C-99075318A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E9C-262A-4A2F-8096-DB5C55E0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750-F003-43DD-90F0-1B371E64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A89-3BD6-40DC-B521-E7BCFDBE7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244D-A2CE-4828-BF7A-04DB7CA2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0425-108C-42D0-AEA3-956C5297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882-9099-4DD1-BE49-419091DE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BB37-EA61-4F48-AA01-7282505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135-8930-4BF9-ACEE-329B528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BAD8-DC41-474C-8404-74F69FABF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6CCF-F185-45EB-B842-8305AD629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49504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667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49504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32F-657B-4D10-B46E-9E6C5DDF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173240" y="1371240"/>
            <a:ext cx="7772400" cy="51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44672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667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44672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16676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2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3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D786-4EB3-49F0-BF21-A9A0FEE3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image" Target="../media/image14.pct"/><Relationship Id="rId9" Type="http://schemas.openxmlformats.org/officeDocument/2006/relationships/image" Target="../media/image15.pct"/><Relationship Id="rId10" Type="http://schemas.openxmlformats.org/officeDocument/2006/relationships/image" Target="../media/image16.pct"/><Relationship Id="rId11" Type="http://schemas.openxmlformats.org/officeDocument/2006/relationships/image" Target="../media/image17.pct"/><Relationship Id="rId12" Type="http://schemas.openxmlformats.org/officeDocument/2006/relationships/image" Target="../media/image18.pct"/><Relationship Id="rId13" Type="http://schemas.openxmlformats.org/officeDocument/2006/relationships/image" Target="../media/image19.pct"/><Relationship Id="rId14" Type="http://schemas.openxmlformats.org/officeDocument/2006/relationships/image" Target="../media/image20.pct"/><Relationship Id="rId15" Type="http://schemas.openxmlformats.org/officeDocument/2006/relationships/image" Target="../media/image21.pct"/><Relationship Id="rId16" Type="http://schemas.openxmlformats.org/officeDocument/2006/relationships/image" Target="../media/image22.pct"/><Relationship Id="rId17" Type="http://schemas.openxmlformats.org/officeDocument/2006/relationships/image" Target="../media/image23.pct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1371240"/>
            <a:ext cx="8793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llenges Representing Phenotype in Pharmacogenomic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na Hernandez-Bouss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ww.pharmGkB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oals for Representing Knowledge in PharmGKB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platform for entering &amp; curating Pharmacogenomic knowledge = Protégé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important pharmacogenes + vari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+variant-drug-phenotype asso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entry for compu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vocabul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linkages to existing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s, drugs, externa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r seman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ble SO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able AL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Vocabularies Currently Us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GNC for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 famil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DRA for adverse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dictio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for disease, symp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 Ontology for cellular location, molecular function,  cellular biologic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90a8"/>
                </a:solidFill>
                <a:latin typeface="Arial"/>
              </a:rPr>
              <a:t>ASSUM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type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&amp; drug vocabulary (MESH for n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chEBI for chemical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drug dictionary @ PharmG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Knowledge Templ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d vocabulary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representation of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key “slots” to be filled using objects, according to log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 Pathway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Overview template, points to “Ste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way Step templates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bolism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step (P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ion step (PD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wnstream phenotype step (PK &amp; P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metabolism step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83059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Drug Inter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ample Phenotype Associ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716292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990720"/>
            <a:ext cx="82296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rmGKB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grates, aggregates and annot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ata and knowledge to serve the PGx research commun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, high qualit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enotype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enotype d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mostly small studies, some large ones in the pipe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services inclu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iterature curations, pathways, VIP gene summar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efforts focus on creat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ipe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improve efficiency and precision of cur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731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225960" y="990720"/>
            <a:ext cx="1269720" cy="1257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67352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1214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4749840" y="23623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61214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749304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29973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44449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5969160" y="388620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375912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2"/>
          <a:stretch/>
        </p:blipFill>
        <p:spPr>
          <a:xfrm>
            <a:off x="7416720" y="388620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13"/>
          <a:stretch/>
        </p:blipFill>
        <p:spPr>
          <a:xfrm>
            <a:off x="5207040" y="53341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14"/>
          <a:stretch/>
        </p:blipFill>
        <p:spPr>
          <a:xfrm>
            <a:off x="7493040" y="990720"/>
            <a:ext cx="1270080" cy="126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15"/>
          <a:stretch/>
        </p:blipFill>
        <p:spPr>
          <a:xfrm>
            <a:off x="1473120" y="243828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3225960" y="2438280"/>
            <a:ext cx="1269720" cy="1270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1473120" y="3886200"/>
            <a:ext cx="117324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Questions?  Thank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ssard@stanford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66"/>
                </a:solidFill>
                <a:latin typeface="Times New Roman"/>
              </a:rPr>
              <a:t>Pharmacogenomics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derstanding how genetic variation leads to variation in responses to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romise from the Genome Proje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ersonalized Medic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drug use effective and safe based on a person’s specific g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acogenomics Flo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68580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419" r="4763" b="0"/>
          <a:stretch/>
        </p:blipFill>
        <p:spPr>
          <a:xfrm>
            <a:off x="2590920" y="1219320"/>
            <a:ext cx="6095880" cy="551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143000" y="0"/>
            <a:ext cx="8001000" cy="125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turing knowledge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talyze pharmacogenomics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Core Cont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8001000" cy="3052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143000" y="4768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sion:  aggregate, integrate &amp; annotate pharmacogenomi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at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armGKB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textual summaries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y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orta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acogenes and their key var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al pathway representations built by consensus, associated with literature evidence and links to PharmGKB genes, drugs, pheno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ture Anno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rmGKB curators create data entries that associate genes with drugs and phenotypes, based on an interpretation of the literature.  They encode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trolled vocabula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etic Variation Complex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variation and its relation to proteins is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exists in the ge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vari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specify the existence of polymorphis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There is A/C SNP at Golden Path X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variations = collection of simpl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 alle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are specific variation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“One allele of the A/C SNP is A at GP X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plotype alleles = collection of simple all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otypes are diploid alleles = “diplotyp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S can be described to all of th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Genotype-Phenotype Rel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219320"/>
            <a:ext cx="815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about gene-drug-pheno interactions comes at different levels of granula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interacts with Drug Y (in pheno Z)--in a physical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ri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Gene X makes a difference in pheno Z for Drug Y--in an association sense (can also be a physical interaction, but that is with produ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ecific Alle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Variant of Gene X has a particular effect on pheno  Z for Drug Y--also in an association s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saic Challenge: Throughput &amp; Redundanc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ed curatorial staff has many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methods to quickly identify important knowledge and capture it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ut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 ONCE for multiple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computable knowledge, can generate displays appropriate for user interests:  pathways, VIP summaries, literature summ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6:36:02Z</dcterms:created>
  <dc:creator>Russ B Altman</dc:creator>
  <dc:description/>
  <dc:language>en-US</dc:language>
  <cp:lastModifiedBy>Tina Boussard</cp:lastModifiedBy>
  <cp:lastPrinted>1904-01-01T00:00:00Z</cp:lastPrinted>
  <dcterms:modified xsi:type="dcterms:W3CDTF">2006-12-01T20:08:31Z</dcterms:modified>
  <cp:revision>57</cp:revision>
  <dc:subject/>
  <dc:title>PharmGKB-Mosaic</dc:title>
</cp:coreProperties>
</file>